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445E-C66C-4655-864C-6114B61EF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55D8-AE2E-4FD8-B5E4-20F2EB5B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E4F8-47FE-4698-A7EF-253A8E3C2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28CA-EAB6-4C3B-B781-5ABD739A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80A1-310C-454F-A033-843FE3FF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0810-2332-44DE-8A97-0FB45841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3E30-9107-40AC-AA04-28E28CF9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EAA5-920D-4BCA-B136-E3423D68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6661-4FF7-4DEF-A181-E06E8403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24E3-7C0A-42BE-9009-FF0AD707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2F28-5EDB-42B9-8838-0091304B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1411-66D9-4136-B72B-8A055345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4C8D-78A5-4BA0-A129-3C44D878F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43600" y="3049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457200"/>
            <a:ext cx="2971800" cy="51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abic Transparent"/>
              </a:rPr>
              <a:t>إليك رفعتُ عينيَّ – يا ساكنَ السموات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abic Transparent"/>
              </a:rPr>
              <a:t>كما أن عيونَ العبيدِ إلى أيدي مواليهم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26214415eDIwaFNgfZ_ph" descr=""/>
          <p:cNvPicPr/>
          <p:nvPr/>
        </p:nvPicPr>
        <p:blipFill>
          <a:blip r:embed="rId1"/>
          <a:stretch/>
        </p:blipFill>
        <p:spPr>
          <a:xfrm>
            <a:off x="0" y="0"/>
            <a:ext cx="564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2148621aZKcNdfpQu_ph" descr=""/>
          <p:cNvPicPr/>
          <p:nvPr/>
        </p:nvPicPr>
        <p:blipFill>
          <a:blip r:embed="rId1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410080" y="228600"/>
            <a:ext cx="3505320" cy="82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كما أن عينيَّ الأَمَةِ إلى سيِّدَتِه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كذلك عيونُنا إلى الربِّ إلهِ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حتى يتحنَّنَ علينا – تحنَّنْ علينا يا ربّ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تحنَّنْ علينا فقد طالما امتلأنا هوانا</a:t>
            </a:r>
            <a:r>
              <a:rPr b="0" lang="ar-SA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5215561trgpRaNsdy_ph" descr=""/>
          <p:cNvPicPr/>
          <p:nvPr/>
        </p:nvPicPr>
        <p:blipFill>
          <a:blip r:embed="rId1"/>
          <a:stretch/>
        </p:blipFill>
        <p:spPr>
          <a:xfrm>
            <a:off x="0" y="1225440"/>
            <a:ext cx="9144000" cy="5632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8839080" cy="17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طالما امتلأت نفوسنا من هُزُءِ المترف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إهانَةِ المتكبرين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07:33:32Z</dcterms:created>
  <dc:creator>SUZANNE.MD</dc:creator>
  <dc:description/>
  <dc:language>en-US</dc:language>
  <cp:lastModifiedBy>USER</cp:lastModifiedBy>
  <dcterms:modified xsi:type="dcterms:W3CDTF">2003-01-28T15:07:06Z</dcterms:modified>
  <cp:revision>2</cp:revision>
  <dc:subject/>
  <dc:title>PowerPoint Presentation</dc:title>
</cp:coreProperties>
</file>